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3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5DDA-818E-4A0D-83B6-4C4510571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F7C0-AD36-4C7F-9AFC-914AEA035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B5D-B787-4FCD-9A05-C4F9C4DAEE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B88D-4391-40C9-96CD-D388BA5C64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80BD8-A2D5-41A5-96D3-4747C297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190F-D556-410E-9EB9-613621D7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0552-3557-40B5-9244-72F0ACB3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AEB4-1BDF-43F5-81C1-8C6867B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F165-055A-41C0-A8C1-07176D7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0DA9-A6F3-43C4-B400-DAF08B7B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E79C3-37DB-4779-9033-6B999B96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92AA3-499D-4C46-B783-D3AA5ABC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A423-C64F-4F74-BA5D-A98A3707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C25-E809-40DE-9B41-41FF248C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2DC-6F44-4539-860F-FD8BFA01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C72-2BD3-4984-B14B-CDC791E1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452-08B2-4F96-8107-66F3C4E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247-2FBA-4E01-B5BC-75627E83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B2A-7156-4987-A955-AFB31B79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530-5EE8-4BED-9887-36BB30E3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6F9-5537-4622-91C3-F8D9A8FD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810-DEA7-45E8-95C5-D65B2177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C8D-2700-4BF5-B686-BF896A6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8FB-C519-4DC3-B583-660E9F11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AAA-DB21-4B02-955A-12AE1071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DCF9-7837-4B9E-9E64-0E3289B7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E74C-790F-4E32-B678-244AEB4F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7FAF-EB46-4731-B44E-A7491D4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BD88-F594-4607-999E-CCFCE0A4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9C7E-B490-4C50-9F79-0B1F9BAD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2299-E776-4A9D-8DB8-EB7406D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F568-F098-4EC5-B6DA-3D4C4B83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1FAC-41A9-445F-8C1D-CC73C9DD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25E4-3AE3-4AB2-B68D-23F31B31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83B-6708-4EFD-963B-22BC93CA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3FE8-3F9E-4DAF-8509-D3639BF9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D287-05EC-4404-A067-D3EA528E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77AE-AA9C-402F-AAC5-48A70C65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9FC2-C801-4147-95BA-B44C24A4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45DE-A73F-4C33-95FB-4FCB77AC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5" name="Picture 5" descr=""/>
            <p:cNvPicPr/>
            <p:nvPr/>
          </p:nvPicPr>
          <p:blipFill>
            <a:blip r:embed="rId4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2" descr="P:\logos\i\ifpri\IFPRI_Logo_Standard.jpg"/>
            <p:cNvPicPr/>
            <p:nvPr/>
          </p:nvPicPr>
          <p:blipFill>
            <a:blip r:embed="rId5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9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Picture 10" descr="P:\Pictures&amp;Resources\Icons\by-nc-sa.png"/>
            <p:cNvPicPr/>
            <p:nvPr/>
          </p:nvPicPr>
          <p:blipFill>
            <a:blip r:embed="rId7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Picture 11" descr=""/>
          <p:cNvPicPr/>
          <p:nvPr/>
        </p:nvPicPr>
        <p:blipFill>
          <a:blip r:embed="rId8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7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2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7608-A6D0-4C43-985D-BF03430C53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A75E-4505-471A-9C83-F9EB4CF907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8386-6AEF-4ADC-95FB-A1FAC69E94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37760" y="1143000"/>
            <a:ext cx="792468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4105440"/>
            <a:ext cx="5735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/Coordin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Placeholder 2"/>
          <p:cNvSpPr/>
          <p:nvPr/>
        </p:nvSpPr>
        <p:spPr>
          <a:xfrm>
            <a:off x="2286000" y="332568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 of Project Achiev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Placeholder 2"/>
          <p:cNvSpPr/>
          <p:nvPr/>
        </p:nvSpPr>
        <p:spPr>
          <a:xfrm>
            <a:off x="2112840" y="533556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alibri"/>
              </a:rPr>
              <a:t>July 3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Mutual benefit of the partnership (do we need each other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ommitted team 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wavering support of local institutions esp. district counc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he do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56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-in-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backstopping/addressing challenges identified during scaling processes that need scientific/research attention (e.g. measuring spillovers; integration of RPO/CBT models, operationalization of adoption in SI intervention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ocumentation and lesson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LA platform (USA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oPs (Africa RISING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191120" y="198072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3. Deeper engagement with local governm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4. Mobilizing NGOs and the private sector for a bigger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5.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MS PGothic"/>
              </a:rPr>
              <a:t>Youth, VBAAs, other community-based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Content Placeholder 4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Horizontal_CMYK_600"/>
          <p:cNvPicPr/>
          <p:nvPr/>
        </p:nvPicPr>
        <p:blipFill>
          <a:blip r:embed="rId1"/>
          <a:stretch/>
        </p:blipFill>
        <p:spPr>
          <a:xfrm>
            <a:off x="2386080" y="1447920"/>
            <a:ext cx="3728880" cy="1066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3813120" cy="98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C:\Users\user\Desktop\URGENT TASKS\Coat_of_arms_of_Tanzania.svg.png"/>
          <p:cNvPicPr/>
          <p:nvPr/>
        </p:nvPicPr>
        <p:blipFill>
          <a:blip r:embed="rId3"/>
          <a:stretch/>
        </p:blipFill>
        <p:spPr>
          <a:xfrm>
            <a:off x="5943600" y="350532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ill Sans"/>
              </a:rPr>
              <a:t>CGIAR/IARC Partners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610" name="Group 1"/>
          <p:cNvGrpSpPr/>
          <p:nvPr/>
        </p:nvGrpSpPr>
        <p:grpSpPr>
          <a:xfrm>
            <a:off x="990720" y="3429000"/>
            <a:ext cx="7056360" cy="2401920"/>
            <a:chOff x="990720" y="3429000"/>
            <a:chExt cx="7056360" cy="2401920"/>
          </a:xfrm>
        </p:grpSpPr>
        <p:pic>
          <p:nvPicPr>
            <p:cNvPr id="611" name="Picture 2" descr=""/>
            <p:cNvPicPr/>
            <p:nvPr/>
          </p:nvPicPr>
          <p:blipFill>
            <a:blip r:embed="rId1"/>
            <a:stretch/>
          </p:blipFill>
          <p:spPr>
            <a:xfrm>
              <a:off x="990720" y="4590720"/>
              <a:ext cx="10666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6477480" y="3429000"/>
              <a:ext cx="152568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6" descr="AVRDC – The World Vegetable Center — avrdc.org"/>
            <p:cNvPicPr/>
            <p:nvPr/>
          </p:nvPicPr>
          <p:blipFill>
            <a:blip r:embed="rId3"/>
            <a:stretch/>
          </p:blipFill>
          <p:spPr>
            <a:xfrm>
              <a:off x="990720" y="3567600"/>
              <a:ext cx="19670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4" descr=""/>
            <p:cNvPicPr/>
            <p:nvPr/>
          </p:nvPicPr>
          <p:blipFill>
            <a:blip r:embed="rId4"/>
            <a:stretch/>
          </p:blipFill>
          <p:spPr>
            <a:xfrm>
              <a:off x="6477480" y="4800960"/>
              <a:ext cx="1569600" cy="10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5" name="Picture 9" descr="\\nas\DATA\MMU\1Publishing_service\50YEARS_Anniversary\50YEARS_logos\IITA TAA new logo.png"/>
          <p:cNvPicPr/>
          <p:nvPr/>
        </p:nvPicPr>
        <p:blipFill>
          <a:blip r:embed="rId5"/>
          <a:stretch/>
        </p:blipFill>
        <p:spPr>
          <a:xfrm>
            <a:off x="3200400" y="2432160"/>
            <a:ext cx="1905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Partn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: (ACDI/VOCA, RUDI, FIPS, MVIWATA), private sector (marketing, proc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 local governments and A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inata Seeds, Meru Agro, Minjingu Fertilizer 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9706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Focus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MS PGothic"/>
              </a:rPr>
              <a:t>2014-2017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)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, legumes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 (GAPs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(incl. soil and water management,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S/acidity/salin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 technologies (bring quality up to market standard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val 3"/>
          <p:cNvSpPr/>
          <p:nvPr/>
        </p:nvSpPr>
        <p:spPr>
          <a:xfrm>
            <a:off x="844560" y="3186000"/>
            <a:ext cx="2514600" cy="19051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2092320" y="320040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TextBox 31" descr=""/>
          <p:cNvPicPr/>
          <p:nvPr/>
        </p:nvPicPr>
        <p:blipFill>
          <a:blip r:embed="rId1"/>
          <a:stretch/>
        </p:blipFill>
        <p:spPr>
          <a:xfrm>
            <a:off x="1011240" y="36511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32" descr=""/>
          <p:cNvPicPr/>
          <p:nvPr/>
        </p:nvPicPr>
        <p:blipFill>
          <a:blip r:embed="rId2"/>
          <a:stretch/>
        </p:blipFill>
        <p:spPr>
          <a:xfrm>
            <a:off x="3103560" y="3462480"/>
            <a:ext cx="1449360" cy="798480"/>
          </a:xfrm>
          <a:prstGeom prst="rect">
            <a:avLst/>
          </a:prstGeom>
          <a:ln w="0">
            <a:noFill/>
          </a:ln>
        </p:spPr>
      </p:pic>
      <p:sp>
        <p:nvSpPr>
          <p:cNvPr id="583" name="Rounded Rectangle 33"/>
          <p:cNvSpPr/>
          <p:nvPr/>
        </p:nvSpPr>
        <p:spPr>
          <a:xfrm>
            <a:off x="171468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on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ounded Rectangle 34"/>
          <p:cNvSpPr/>
          <p:nvPr/>
        </p:nvSpPr>
        <p:spPr>
          <a:xfrm>
            <a:off x="1600200" y="547380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5" name="Straight Arrow Connector 37"/>
          <p:cNvCxnSpPr/>
          <p:nvPr/>
        </p:nvCxnSpPr>
        <p:spPr>
          <a:xfrm>
            <a:off x="337464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Straight Arrow Connector 38"/>
          <p:cNvCxnSpPr/>
          <p:nvPr/>
        </p:nvCxnSpPr>
        <p:spPr>
          <a:xfrm>
            <a:off x="219348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39"/>
          <p:cNvSpPr/>
          <p:nvPr/>
        </p:nvSpPr>
        <p:spPr>
          <a:xfrm>
            <a:off x="2181240" y="3825720"/>
            <a:ext cx="1143000" cy="61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Up-Down Arrow 40"/>
          <p:cNvSpPr/>
          <p:nvPr/>
        </p:nvSpPr>
        <p:spPr>
          <a:xfrm>
            <a:off x="2590920" y="5032440"/>
            <a:ext cx="228600" cy="436320"/>
          </a:xfrm>
          <a:prstGeom prst="upDownArrow">
            <a:avLst>
              <a:gd name="adj1" fmla="val 50000"/>
              <a:gd name="adj2" fmla="val 5012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2"/>
          <p:cNvSpPr/>
          <p:nvPr/>
        </p:nvSpPr>
        <p:spPr>
          <a:xfrm>
            <a:off x="4718160" y="1676520"/>
            <a:ext cx="4349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Work closely with NAFAKA team members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, private sec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GIS for better targ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ommunication and coordinatio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partners, </a:t>
            </a:r>
            <a:r>
              <a:rPr b="0" lang="en-US" sz="2000" spc="-1" strike="noStrike">
                <a:solidFill>
                  <a:srgbClr val="1e4abd"/>
                </a:solidFill>
                <a:latin typeface="Calibri"/>
                <a:ea typeface="MS PGothic"/>
              </a:rPr>
              <a:t>donor tea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1"/>
          <p:cNvSpPr/>
          <p:nvPr/>
        </p:nvSpPr>
        <p:spPr>
          <a:xfrm>
            <a:off x="1098720" y="961920"/>
            <a:ext cx="7238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artnership –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chievements – mid 2017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57200" y="1676520"/>
          <a:ext cx="815328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838080"/>
                <a:gridCol w="1219320"/>
                <a:gridCol w="990720"/>
                <a:gridCol w="990360"/>
              </a:tblGrid>
              <a:tr h="841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April 20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 Achieve-ment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8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hectares under improved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2,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2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645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7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farmers and others who have applied new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0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dividuals who have received short-term agricultural sector productivity or food security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1120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ivate enterprises (for profit), producers organizations and associations/organizations benefitting (mostly farmers’ grou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-1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rural households benefiting directly from interven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honi, F., Zhe, G., Bekunda, M.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, Kizito, F., Baijukya, F. P. &amp; Hoeschle-Zeledon, I.  (2017). Sustainable recommendation domains for scaling agricultural technologies in Tanzania. </a:t>
            </a:r>
            <a:r>
              <a:rPr b="0" i="1" lang="en-US" sz="2000" spc="-1" strike="noStrike">
                <a:solidFill>
                  <a:srgbClr val="0000ff"/>
                </a:solidFill>
                <a:latin typeface="Calibri"/>
              </a:rPr>
              <a:t>Land use Policy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, 66: 34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ramzow, A.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, Afari-Sefa, V., Bekunda, M. &amp; Lukumay, J.P. Taking agricultural technologies to scale: Experiences from a vegetable technology dissemination initiative in Tanzania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Under review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nternational Journal of Agricultural Sustain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.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kunda, M., Muthoni, F. &amp; Masigo J. Transfer of training for sustainable intensification in Tanzania: critical considerations for scaling-up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Positive review response: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Journal of Agricultural Science and Techn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Training manuals, briefs, broch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7-07-03T05:45:28Z</dcterms:modified>
  <cp:revision>53</cp:revision>
  <dc:subject/>
  <dc:title>PowerPoint Presentation</dc:title>
</cp:coreProperties>
</file>